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4F274-812B-43C1-9BB0-9B06D8EFC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A8ABD-A805-4442-A8A6-DB3413B8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98509-A85D-4569-9BC7-677A4EDE3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5DFEB-AF89-49FE-87EE-431947194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E832-3EF5-4F6E-A1B5-10A7D317F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6982-9817-4AB3-B3FB-7F1831DF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A4B5-FEAC-46B4-94A3-9ADAC481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8FDD-10F9-4F38-BC30-A8BFEFF2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F71F-2820-4AE7-8878-5858299E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31D9-1105-4F4E-8D63-1C0A78CC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A58A-65B5-4122-AD24-3A817D95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489BB-6CA9-4BC5-A4D8-122EC8B3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5EDB-F6BB-46C3-811B-1049D582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24A1-F0E0-4714-AB8A-4383D0B2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5EF8-31A9-4C5D-BF69-0346E9D0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E583-5B66-4884-A93B-E43D448FA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54EB-D131-4708-91AA-483B2475A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3A01C-A92B-4851-AEC3-14B02855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97120-8BEA-43DA-9570-6CAEEA8B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44D3F-EC74-49A1-8AE8-24939894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1948A-CBC0-4868-B9D7-69F0354A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3F1AE-7EB3-4C86-8756-50FBBB4E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AC746-0B64-41ED-B3CF-4629A05B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3B27A-71BA-4F76-9964-F34BE431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899D-3BE7-44E4-9CCA-C920464AC1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BBDD-A28B-4639-8B92-FCBE7008840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Джек Лондон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Picture 5" descr="autor_img"/>
          <p:cNvPicPr/>
          <p:nvPr/>
        </p:nvPicPr>
        <p:blipFill>
          <a:blip r:embed="rId1"/>
          <a:stretch/>
        </p:blipFill>
        <p:spPr>
          <a:xfrm>
            <a:off x="1908000" y="1773360"/>
            <a:ext cx="4969080" cy="47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. Рождественск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Если б только люди жили вечно,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это было бы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бесчеловечно…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Как узнать,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чего ты в жизни стоишь?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Как почуять,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что такое риск?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В море броситься?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Так не утонешь!..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На костер взойти?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Так не сгоришь!..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Поле распахать?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Потом успею…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Порох выдумать?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А для чего?!.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Наслаждались бы ленивой спесью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Пленники бессмертья своего.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Ничего они бы не свершили!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Никогда б не вылезли из тьмы…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Может, самый главный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стимул жизни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В горькой истине, что смертны м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2" name="Picture 5" descr="рис2"/>
          <p:cNvPicPr/>
          <p:nvPr/>
        </p:nvPicPr>
        <p:blipFill>
          <a:blip r:embed="rId1"/>
          <a:stretch/>
        </p:blipFill>
        <p:spPr>
          <a:xfrm>
            <a:off x="981000" y="1600200"/>
            <a:ext cx="2990880" cy="4525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едь такова Жизнь, суетная и скоропреходящая. Только жизнь заставляет страдать. Умереть не больно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мереть – уснут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мерть – это значит конец, поко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чему же тогда мне не хочется умирать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«Любовь к жизни» - это рассказ о мужественном человеке, который выстоял в таких страшных испытаниях, как одиночество, предательство друга и борьба с суровой северной природой. Самое главное - преодолел себя, свой страх, свою бол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Джек Лондон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(1876 – 1916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жек Лондон (настоящее имя Джон Гриффин) родился 12 января  1876 года в Сан-Франциско в семье разорившегося фермер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Picture 8" descr="рис"/>
          <p:cNvPicPr/>
          <p:nvPr/>
        </p:nvPicPr>
        <p:blipFill>
          <a:blip r:embed="rId1"/>
          <a:stretch/>
        </p:blipFill>
        <p:spPr>
          <a:xfrm>
            <a:off x="250920" y="1557360"/>
            <a:ext cx="43354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«Золотая лихорадка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1896 году на Аляске были открыты залежи золот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Золотая лихорадка» захватила и Джека Лондон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12" descr="рисунок"/>
          <p:cNvPicPr/>
          <p:nvPr/>
        </p:nvPicPr>
        <p:blipFill>
          <a:blip r:embed="rId1"/>
          <a:stretch/>
        </p:blipFill>
        <p:spPr>
          <a:xfrm>
            <a:off x="468360" y="2133720"/>
            <a:ext cx="403236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ссказы Джека Лондон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ернувшись в Сан-Франциско, он полностью отдается писательскому труду. 1899 год становится переломным в судьбе Лондона: один за другим выходят его «Северные рассказы» среди них был и рассказ «Любовь к жизни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7" descr="Белый клык  "/>
          <p:cNvPicPr/>
          <p:nvPr/>
        </p:nvPicPr>
        <p:blipFill>
          <a:blip r:embed="rId1"/>
          <a:stretch/>
        </p:blipFill>
        <p:spPr>
          <a:xfrm>
            <a:off x="250920" y="1341360"/>
            <a:ext cx="1904760" cy="2887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Любовь к жизни"/>
          <p:cNvPicPr/>
          <p:nvPr/>
        </p:nvPicPr>
        <p:blipFill>
          <a:blip r:embed="rId2"/>
          <a:stretch/>
        </p:blipFill>
        <p:spPr>
          <a:xfrm>
            <a:off x="2195640" y="4086360"/>
            <a:ext cx="1714320" cy="2771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Обложка книги: Расса Кингмана «Иллюстрированная жизнь Дж. Лондона»"/>
          <p:cNvPicPr/>
          <p:nvPr/>
        </p:nvPicPr>
        <p:blipFill>
          <a:blip r:embed="rId3"/>
          <a:stretch/>
        </p:blipFill>
        <p:spPr>
          <a:xfrm>
            <a:off x="2411280" y="1052640"/>
            <a:ext cx="19051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ом в Калифофорн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Дом в Калифорнии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следние годы своей жизни Лондон провёл на калифорнинийском ранчо. 22 ноября 1916 года Джек Лондон скончался. За неполных 20 лет литературной деятельности Джек Лондон создал свыше 200 рассказов, 20 романов и 3 пьес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8" descr="дом В Калифорнии"/>
          <p:cNvPicPr/>
          <p:nvPr/>
        </p:nvPicPr>
        <p:blipFill>
          <a:blip r:embed="rId1"/>
          <a:stretch/>
        </p:blipFill>
        <p:spPr>
          <a:xfrm>
            <a:off x="826920" y="1773360"/>
            <a:ext cx="345780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играф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Насколько человек побеждает страх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Настолько он человек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Томас Корлейль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англ. писатель и историк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«Любовь к  жизни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6" descr="рис1"/>
          <p:cNvPicPr/>
          <p:nvPr/>
        </p:nvPicPr>
        <p:blipFill>
          <a:blip r:embed="rId1"/>
          <a:stretch/>
        </p:blipFill>
        <p:spPr>
          <a:xfrm>
            <a:off x="2340000" y="1628640"/>
            <a:ext cx="4319640" cy="37022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530028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Билл шёл вперёд, даже не оглядываясь»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кстремальная ситуация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от.лат.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extremus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« крайний») Экстремальная ситуация – ситуация, крайне напряжённая, опасная, требующая от человека наивысшего подъёма душевных и физических сил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28472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к же он будет смеяться над Биллом, еслим это Билл, если эти бело-розовые кости-всё,  что осталось от Билла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9" descr="джек"/>
          <p:cNvPicPr/>
          <p:nvPr/>
        </p:nvPicPr>
        <p:blipFill>
          <a:blip r:embed="rId1"/>
          <a:stretch/>
        </p:blipFill>
        <p:spPr>
          <a:xfrm>
            <a:off x="468360" y="1628640"/>
            <a:ext cx="3744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0T06:03:39Z</dcterms:created>
  <dc:creator>Андрей</dc:creator>
  <dc:description/>
  <dc:language>en-US</dc:language>
  <cp:lastModifiedBy>Компьютер я. Машина!</cp:lastModifiedBy>
  <dcterms:modified xsi:type="dcterms:W3CDTF">2001-12-31T19:34:38Z</dcterms:modified>
  <cp:revision>18</cp:revision>
  <dc:subject/>
  <dc:title>Джек Лондон</dc:title>
</cp:coreProperties>
</file>